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C0C-BC8B-4329-B6A1-0B2516AF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2A0-8342-427B-9299-F2A3212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440-F653-47B9-8014-ED4F3285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07B-74F4-4EDD-BB57-32681C69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4A3C-1246-46F9-8D05-971915CE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F55-DB52-4CBF-91B6-BD4D43F3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B8B5-79AD-48E7-85F5-7AEF5F2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2F8-0A05-4FF6-9D4F-5F41E05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74D-E55B-4FD9-B966-47FCF9A5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A86B-AEA4-4E3A-A145-D82D548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39FF-EE6A-422F-9280-C3BC971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CEB-D47A-4C9D-941C-7D4DE9B8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0091-7830-4594-96F3-B18FD2D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D6E-B9B6-4514-870E-E42BFAD9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4183-59BC-4CD0-B5D7-6110666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9BE-414B-4043-B541-02C8F0B1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7FCD-43ED-4F7F-ABA9-876D58BA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E6D-4C7F-425C-B494-01A5CC1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53-2D4C-4876-AF2A-FDFC3981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E18-A7BB-4DBF-98C8-40436D9E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984-5447-4086-BE42-3E9BD98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991-1F15-41E1-90AE-64BA631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E7-6468-4061-910F-C474942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F52-4633-43AC-95C1-378C0FC6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BFB5-BE54-47D0-95B5-B2F4ADB5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E3A-1CF0-4FDC-989E-18292090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Candy Dispenser Challe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396216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2200" y="62485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eer Areas Associated with Invention and Inno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ufactu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BD06768_"/>
          <p:cNvPicPr/>
          <p:nvPr/>
        </p:nvPicPr>
        <p:blipFill>
          <a:blip r:embed="rId1"/>
          <a:stretch/>
        </p:blipFill>
        <p:spPr>
          <a:xfrm>
            <a:off x="762120" y="2590920"/>
            <a:ext cx="46479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24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eps in the process inclu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ng the challe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re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&amp; Devel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the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BD09857_"/>
          <p:cNvPicPr/>
          <p:nvPr/>
        </p:nvPicPr>
        <p:blipFill>
          <a:blip r:embed="rId1"/>
          <a:stretch/>
        </p:blipFill>
        <p:spPr>
          <a:xfrm>
            <a:off x="4952880" y="1981080"/>
            <a:ext cx="3772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57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totype is a full-size working model used to test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ypes are often used in the automobile industry to develop new car and truck ideas to their fullest potential while carefully evaluating the designs’ strengths and weakne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BD10748_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1371600" y="1143000"/>
            <a:ext cx="655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ing in groups of 3 or 4, you will use the engineering design process to invent a new Candy Dispenser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e the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Candy Dispenser Design Brie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14600" y="5181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nk Safety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791320" y="60958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sign Brief: Candy Dispenser Design Brie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together in  collaborative and cooperative ways is not always eas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you’ll have to work with people, who aren’t your frien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ing common ground is the best way to get the task done we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BS02094_"/>
          <p:cNvPicPr/>
          <p:nvPr/>
        </p:nvPicPr>
        <p:blipFill>
          <a:blip r:embed="rId1"/>
          <a:stretch/>
        </p:blipFill>
        <p:spPr>
          <a:xfrm>
            <a:off x="304920" y="2057400"/>
            <a:ext cx="40384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43000" y="2362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your Candy Dispenser to the clas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43000" y="2362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your Candy Dispenser to the clas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teps are necessary to invent and construct a simple technological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GP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4: Students will invent or innovate a technological produ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6: Students will develop leadership skills and work ethic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Construct a simple technological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Explain how your technological system oper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Describe the steps of the Engineering Design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steps are necessary to invent and construct a simple technological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eat Thinke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ir I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ter Green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e Dick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ence C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iam Russell Fris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BD06727_"/>
          <p:cNvPicPr/>
          <p:nvPr/>
        </p:nvPicPr>
        <p:blipFill>
          <a:blip r:embed="rId1"/>
          <a:stretch/>
        </p:blipFill>
        <p:spPr>
          <a:xfrm>
            <a:off x="4610160" y="1897200"/>
            <a:ext cx="1658880" cy="147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M00172_"/>
          <p:cNvPicPr/>
          <p:nvPr/>
        </p:nvPicPr>
        <p:blipFill>
          <a:blip r:embed="rId2"/>
          <a:stretch/>
        </p:blipFill>
        <p:spPr>
          <a:xfrm>
            <a:off x="4038480" y="3809880"/>
            <a:ext cx="808200" cy="932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BD20094_"/>
          <p:cNvPicPr/>
          <p:nvPr/>
        </p:nvPicPr>
        <p:blipFill>
          <a:blip r:embed="rId3"/>
          <a:stretch/>
        </p:blipFill>
        <p:spPr>
          <a:xfrm>
            <a:off x="3886200" y="3962520"/>
            <a:ext cx="1862280" cy="1958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crystomintroll"/>
          <p:cNvPicPr/>
          <p:nvPr/>
        </p:nvPicPr>
        <p:blipFill>
          <a:blip r:embed="rId4"/>
          <a:stretch/>
        </p:blipFill>
        <p:spPr>
          <a:xfrm>
            <a:off x="5791320" y="3809880"/>
            <a:ext cx="1884240" cy="213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frisbee1"/>
          <p:cNvPicPr/>
          <p:nvPr/>
        </p:nvPicPr>
        <p:blipFill>
          <a:blip r:embed="rId5"/>
          <a:stretch/>
        </p:blipFill>
        <p:spPr>
          <a:xfrm>
            <a:off x="6781680" y="2436840"/>
            <a:ext cx="1676520" cy="1660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3"/>
          <p:cNvSpPr/>
          <p:nvPr/>
        </p:nvSpPr>
        <p:spPr>
          <a:xfrm>
            <a:off x="1752480" y="5943600"/>
            <a:ext cx="80773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 were retrieved from http://z.about.com/d/inventors/1/0/P/5/frisbee1.jpg, http://www.candydirect.com/mints/Lifesavers-Rolls-CrystOMint.html,  and the                     Microsoft Clip Art Gall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7" descr="FD01167_"/>
          <p:cNvPicPr/>
          <p:nvPr/>
        </p:nvPicPr>
        <p:blipFill>
          <a:blip r:embed="rId6"/>
          <a:stretch/>
        </p:blipFill>
        <p:spPr>
          <a:xfrm>
            <a:off x="6705720" y="2057400"/>
            <a:ext cx="16984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of every generation all around the world have increased their capability to do work and live well by inventing and innova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evelopment of any kind of technology is a human activity and is the result of someone having a problem, needing something new to fix the problem, and creating a solu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ntion requires a lot of patience and perseveranc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is closely linked to creativity, which has resulted in innov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ntion is a process of turning ideas and imagination into devices and syst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371240" y="16765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novation is the process of modifying an existing product or system to improve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novation often involves decreasing the overall capabilities of a product or system in order to increase its ability to perform a more narrow or specific task very efficiently. This 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295280" y="27432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products and systems can be developed to solve problems or to help do things that could not be done without the help of technology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so important about all of this stuf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tinued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Flanders</cp:lastModifiedBy>
  <dcterms:modified xsi:type="dcterms:W3CDTF">2010-02-01T21:21:12Z</dcterms:modified>
  <cp:revision>30</cp:revision>
  <dc:subject/>
  <dc:title>INVENTION</dc:title>
</cp:coreProperties>
</file>